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E1B5-7380-4C45-9824-81AD3CFCB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0CFF-1F39-4A74-B396-4D025E595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19D-343B-48AA-BEDF-29AC776E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4B0-5771-42A7-ADEC-7DA31C68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89B-E333-43EA-B725-9FA60032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70C-9CD1-49D9-B162-0D3AAF28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342-079D-4FCE-8E6D-8F76135F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75F-665E-4229-93B6-44EB0A05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5AD-34B4-4431-9CC1-D2424E08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C2B-31D6-41F5-97AF-4AE09396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1ED-6BD7-405D-A496-F4FF346D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BAA-5707-4500-92E9-C8E434C3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C93-F5E7-4117-A540-E21F8009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19A-A747-4C07-883C-96B6791E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6B33-7EAD-46C4-93E3-A8025478C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yssa 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lyssa Edmond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lyssa Edmo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lyssa Edmo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ónde quieres vi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,y Buenos dias, Mi nombre es Alyssa. Yo vivo en New York. Yo tengo catorce años. Yo tengo una hermanas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quero vivar en Itali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tas bueno, Yo quero vivar en Lon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ero vivar en Hawaii, Alyssa et t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quero poder vivar en a bonita isl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porqu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ha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4267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Photo on 12-6-12 at 9.37 AM.jpg"/>
          <p:cNvPicPr/>
          <p:nvPr/>
        </p:nvPicPr>
        <p:blipFill>
          <a:blip r:embed="rId12"/>
          <a:stretch/>
        </p:blipFill>
        <p:spPr>
          <a:xfrm>
            <a:off x="1962000" y="2514600"/>
            <a:ext cx="70488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Photo on 12-6-12 at 9.45 AM.jpg"/>
          <p:cNvPicPr/>
          <p:nvPr/>
        </p:nvPicPr>
        <p:blipFill>
          <a:blip r:embed="rId13"/>
          <a:stretch/>
        </p:blipFill>
        <p:spPr>
          <a:xfrm>
            <a:off x="1981080" y="3200400"/>
            <a:ext cx="723960" cy="482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Photo on 12-6-12 at 9.46 AM.jpg"/>
          <p:cNvPicPr/>
          <p:nvPr/>
        </p:nvPicPr>
        <p:blipFill>
          <a:blip r:embed="rId14"/>
          <a:stretch/>
        </p:blipFill>
        <p:spPr>
          <a:xfrm>
            <a:off x="1981080" y="3809880"/>
            <a:ext cx="68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8:09Z</dcterms:modified>
  <cp:revision>108</cp:revision>
  <dc:subject/>
  <dc:title>Profile</dc:title>
</cp:coreProperties>
</file>